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B46-3891-40AA-B3A3-25E073B2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2C8-324C-4154-A216-F92704E8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BB2-B4D9-47BB-9237-594CEE30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20D-439B-4771-B31F-C681ABB4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AB3-264C-4A3D-8148-3534332C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C03-B4F8-4A21-BED8-1F3BA81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5ED-DCFF-44DB-9A31-BC740BF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375-B7C3-422A-AFA7-142148C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4EB-DE06-4230-A260-E423957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B29-474C-482F-AA22-17742F4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74D-29B3-4EBC-B098-57E66E4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ACD-7A6B-45D1-A1C6-4A8275F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E11-8DDD-4BD9-B15F-936C69F38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oorbell.wav" TargetMode="External"/><Relationship Id="rId2" Type="http://schemas.microsoft.com/office/2007/relationships/media" Target="file:///tmp/home/.config/libreoffice/4/user/gallery/doorbell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car%20horn%201.wav" TargetMode="External"/><Relationship Id="rId5" Type="http://schemas.microsoft.com/office/2007/relationships/media" Target="file:///tmp/home/.config/libreoffice/4/user/gallery/car%20horn%201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flushtoilet.wav" TargetMode="External"/><Relationship Id="rId8" Type="http://schemas.microsoft.com/office/2007/relationships/media" Target="file:///tmp/home/.config/libreoffice/4/user/gallery/flushtoilet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snore.wav" TargetMode="External"/><Relationship Id="rId11" Type="http://schemas.microsoft.com/office/2007/relationships/media" Target="file:///tmp/home/.config/libreoffice/4/user/gallery/snore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BIRD1.wav" TargetMode="External"/><Relationship Id="rId14" Type="http://schemas.microsoft.com/office/2007/relationships/media" Target="file:///tmp/home/.config/libreoffice/4/user/gallery/BIRD1.wav" TargetMode="External"/><Relationship Id="rId15" Type="http://schemas.openxmlformats.org/officeDocument/2006/relationships/image" Target="../media/image2.png"/><Relationship Id="rId16" Type="http://schemas.openxmlformats.org/officeDocument/2006/relationships/audio" Target="file:///tmp/home/.config/libreoffice/4/user/gallery/cruch%20and%20chew.wav" TargetMode="External"/><Relationship Id="rId17" Type="http://schemas.microsoft.com/office/2007/relationships/media" Target="file:///tmp/home/.config/libreoffice/4/user/gallery/cruch%20and%20chew.wav" TargetMode="External"/><Relationship Id="rId18" Type="http://schemas.openxmlformats.org/officeDocument/2006/relationships/image" Target="../media/image2.png"/><Relationship Id="rId19" Type="http://schemas.openxmlformats.org/officeDocument/2006/relationships/audio" Target="file:///tmp/home/.config/libreoffice/4/user/gallery/water%20splash.wav" TargetMode="External"/><Relationship Id="rId20" Type="http://schemas.microsoft.com/office/2007/relationships/media" Target="file:///tmp/home/.config/libreoffice/4/user/gallery/water%20splash.wav" TargetMode="External"/><Relationship Id="rId21" Type="http://schemas.openxmlformats.org/officeDocument/2006/relationships/image" Target="../media/image2.png"/><Relationship Id="rId22" Type="http://schemas.openxmlformats.org/officeDocument/2006/relationships/audio" Target="file:///tmp/home/.config/libreoffice/4/user/gallery/music%20box.wav" TargetMode="External"/><Relationship Id="rId23" Type="http://schemas.microsoft.com/office/2007/relationships/media" Target="file:///tmp/home/.config/libreoffice/4/user/gallery/music%20box.wav" TargetMode="External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844640"/>
            <a:ext cx="8064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hez moi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6453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0800000">
            <a:off x="539280" y="40428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2339640" y="-36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3059280" y="40464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6168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3492000" y="333360"/>
            <a:ext cx="1800360" cy="2448000"/>
          </a:xfrm>
          <a:prstGeom prst="upArrowCallout">
            <a:avLst>
              <a:gd name="adj1" fmla="val 25002"/>
              <a:gd name="adj2" fmla="val 25000"/>
              <a:gd name="adj3" fmla="val 22662"/>
              <a:gd name="adj4" fmla="val 12762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4427640" y="33336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020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5435640" y="0"/>
            <a:ext cx="2232000" cy="2852640"/>
          </a:xfrm>
          <a:prstGeom prst="upArrowCallout">
            <a:avLst>
              <a:gd name="adj1" fmla="val 25002"/>
              <a:gd name="adj2" fmla="val 19134"/>
              <a:gd name="adj3" fmla="val 21301"/>
              <a:gd name="adj4" fmla="val 15604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00000">
            <a:off x="6407280" y="619920"/>
            <a:ext cx="2736720" cy="2087640"/>
          </a:xfrm>
          <a:prstGeom prst="upArrowCallout">
            <a:avLst>
              <a:gd name="adj1" fmla="val 29814"/>
              <a:gd name="adj2" fmla="val 24185"/>
              <a:gd name="adj3" fmla="val 16574"/>
              <a:gd name="adj4" fmla="val 11646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hamb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0800000">
            <a:off x="3924360" y="549360"/>
            <a:ext cx="1800000" cy="1511280"/>
          </a:xfrm>
          <a:prstGeom prst="upArrowCallout">
            <a:avLst>
              <a:gd name="adj1" fmla="val 27738"/>
              <a:gd name="adj2" fmla="val 29776"/>
              <a:gd name="adj3" fmla="val 30588"/>
              <a:gd name="adj4" fmla="val 118272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7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8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56000" y="189000"/>
            <a:ext cx="6588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0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8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31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1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33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10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5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98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6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9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3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92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42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9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5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501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589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093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692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268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070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6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3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3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6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33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10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8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35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25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98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413000">
            <a:off x="7632360" y="407628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11659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1080" y="260280"/>
            <a:ext cx="1942920" cy="3384720"/>
          </a:xfrm>
          <a:prstGeom prst="downArrowCallout">
            <a:avLst>
              <a:gd name="adj1" fmla="val 25002"/>
              <a:gd name="adj2" fmla="val 25000"/>
              <a:gd name="adj3" fmla="val 29035"/>
              <a:gd name="adj4" fmla="val 18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486900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7625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16720" y="4005360"/>
            <a:ext cx="1728720" cy="2016000"/>
          </a:xfrm>
          <a:prstGeom prst="upArrowCallout">
            <a:avLst>
              <a:gd name="adj1" fmla="val 28197"/>
              <a:gd name="adj2" fmla="val 26310"/>
              <a:gd name="adj3" fmla="val 30618"/>
              <a:gd name="adj4" fmla="val 13654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92720" y="4005360"/>
            <a:ext cx="1655640" cy="2852640"/>
          </a:xfrm>
          <a:prstGeom prst="upArrowCallout">
            <a:avLst>
              <a:gd name="adj1" fmla="val 27688"/>
              <a:gd name="adj2" fmla="val 25750"/>
              <a:gd name="adj3" fmla="val 46385"/>
              <a:gd name="adj4" fmla="val 14115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3933720"/>
            <a:ext cx="1728720" cy="2563920"/>
          </a:xfrm>
          <a:prstGeom prst="upArrowCallout">
            <a:avLst>
              <a:gd name="adj1" fmla="val 28197"/>
              <a:gd name="adj2" fmla="val 26310"/>
              <a:gd name="adj3" fmla="val 38939"/>
              <a:gd name="adj4" fmla="val 149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2000" y="4292640"/>
            <a:ext cx="2592360" cy="718920"/>
          </a:xfrm>
          <a:prstGeom prst="rightArrowCallout">
            <a:avLst>
              <a:gd name="adj1" fmla="val 58061"/>
              <a:gd name="adj2" fmla="val 50000"/>
              <a:gd name="adj3" fmla="val 72652"/>
              <a:gd name="adj4" fmla="val 6666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45:07Z</dcterms:created>
  <dc:creator>CSeccombe</dc:creator>
  <dc:description/>
  <dc:language>en-US</dc:language>
  <cp:lastModifiedBy>Ministry of Education</cp:lastModifiedBy>
  <dcterms:modified xsi:type="dcterms:W3CDTF">2009-04-30T03:32:07Z</dcterms:modified>
  <cp:revision>24</cp:revision>
  <dc:subject/>
  <dc:title>Slide 1</dc:title>
</cp:coreProperties>
</file>